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FA83-53D1-455B-95E0-4EF3E17317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0A3B-2229-4371-907E-0C8082B7183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AFFD-3F2F-4440-AE49-A2220465EE6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B44-CBFF-406F-9B2C-07CD943AAE3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B6B5-15BB-48F3-A5B4-A582C1DF372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0D2A-AA17-4821-ABFF-C43F62CD19F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60D5D-7280-4C3F-8B46-CD365BF0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27D8C-A554-4662-B8FA-E4D7D5A0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62FFB-E39D-44E5-A166-2586BF0C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ABC64-92B3-4ABD-8CAA-A1378153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08A5D-5F59-416E-8C55-EA331CC3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5F47D-710A-45CC-A0D2-07937130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EDC9A-2445-46E3-A773-EDD7356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C4958-D903-4C35-940A-4DA93FCA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30CD5-4513-45C9-8CFA-2B81D23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B4185-14DE-4CE9-8BE6-EBBF7547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32E7B-ECAE-4C7A-BE51-D3A38F8A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82F3B-FAD2-42B2-A3A2-50DBFE62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FA75B-12CE-42FC-8FDC-F592C488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FA3F3-97C0-4FE4-A3F2-A04F6EBC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9E0BA-43A8-4297-A896-7EB77B7A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5E15B-7CDD-4187-820F-9FBBBB46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88582-8E5F-4B68-B3E2-02301284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2F988-C8ED-4E27-BC20-1B455651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48F22-93C9-461E-80D1-B1DE5E4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B6489-8164-4179-ADFC-9CF9444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62B00-9D5E-4004-95F9-3F893073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422BF-2444-4838-9FD4-D466EFD0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40D21-0124-474F-81E3-FF9F95CE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5E42A-C483-4AC3-B8E5-20F1D060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E47F-3D1A-4569-9B46-C2DAF4CC716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8126-AEA9-427F-9F1F-88C873F3BAE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73BB-2CEE-45B0-9A63-FB2F3DA33B5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AA75-A0CE-4B84-9D96-A3A8625FE88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7E4D-1AE6-4973-8AD4-F042BEE708A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4CF3-40DE-4017-BC30-CD2E3FFE821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16F2-928C-4612-8F08-3D2FA17CA27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0B77-C7A9-491E-BC5E-C8D31682124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E316-5F8F-4DAC-AD3C-E81ED9E7476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6710-3B3D-423C-9162-D0C4990D9B4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 정책 및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 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 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7480"/>
            <a:chOff x="214200" y="189000"/>
            <a:chExt cx="8929800" cy="305748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7480"/>
              <a:chOff x="285480" y="189000"/>
              <a:chExt cx="8858520" cy="305748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792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 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이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고독사 예방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형성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160"/>
            <a:chOff x="285840" y="119160"/>
            <a:chExt cx="8715240" cy="616716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선택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관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 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32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정책내용은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60865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방향과 특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516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저출산고령사회 기본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21-2025</a:t>
                </a:r>
                <a:r>
                  <a:rPr b="0" lang="en-US" sz="1800" spc="-1" strike="noStrike">
                    <a:solidFill>
                      <a:srgbClr val="0070c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능동적인 고령사회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추진과제는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8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공백 없는 노후생활보장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예방적 보건의료서비스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계속 거주를 위한 통합적 돌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적 주거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존엄한 삶의 마무리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77080" cy="4500720"/>
              <a:chOff x="285840" y="71280"/>
              <a:chExt cx="867708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580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60580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의 영위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 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생리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 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3-35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360"/>
              <a:ext cx="8606160" cy="3710160"/>
              <a:chOff x="323640" y="2565360"/>
              <a:chExt cx="8606160" cy="371016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732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독사 예방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수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3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056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 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8200"/>
              <a:chOff x="357120" y="285840"/>
              <a:chExt cx="8501040" cy="593820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448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00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2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9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9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맞춤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.2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으로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의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680"/>
            <a:chOff x="0" y="0"/>
            <a:chExt cx="9358200" cy="641268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080"/>
              <a:chOff x="285480" y="785520"/>
              <a:chExt cx="8572680" cy="290808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596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인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仁政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주요 대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로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민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76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760"/>
              <a:ext cx="8572680" cy="2554920"/>
              <a:chOff x="285480" y="385776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76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40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5:58Z</dcterms:modified>
  <cp:revision>32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